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2FD3-EEE4-4F70-B0DE-A2B40C5C0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2AF9-10D6-4368-855C-5E35CDD52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8822-B85B-4643-8A98-C6E7DEB9D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C194-EBE3-44BF-B355-67B22CBB1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E1B6-4C1C-4458-97BF-26C204869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D2E5-B23D-46F2-989E-F15FF0D1F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F469-4C3A-4B05-BEA1-AED81609E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DED2-0EF2-4977-A3A4-83ED29C27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DF7E-E6E6-461D-A168-9080A5605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20BA-6E89-475A-93D5-85331CCE3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2FF6-3EB4-47D6-A377-857149FE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F3BA-C6EE-4BAC-9B0D-AE8EBC19A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D9756-59BA-4AF1-A380-CE15A49926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79280" y="30240"/>
            <a:ext cx="532944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bbe0e3"/>
                </a:solidFill>
                <a:latin typeface="comic"/>
              </a:rPr>
              <a:t>29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Привет теб, красиво утро! Божие слънце пак изгря! Погледнете колко чудно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озарява, без да спре!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    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 Върховете заблестяват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в чудна, нова светлина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и без думи изявяват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[: на Твореца любовта! :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31708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57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08000" y="2781360"/>
            <a:ext cx="54738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О, защо да сме унили?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Наший Бог не е ли жив!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Нали в Него сме се скрили,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в Стълба Божи от Хорив!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Всички скърби и страдания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един ден ще имат край!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През тез трудни изпитания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 [: Той ни води в Божи рай! :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932360" y="404640"/>
            <a:ext cx="3887640" cy="29163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ccffcc">
                <a:alpha val="50000"/>
              </a:srgbClr>
            </a:outerShdw>
          </a:effectLst>
        </p:spPr>
      </p:pic>
    </p:spTree>
  </p:cSld>
  <p:transition advTm="50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50920" y="314280"/>
            <a:ext cx="3959280" cy="29703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ffcc">
                <a:alpha val="50000"/>
              </a:srgbClr>
            </a:outerShdw>
          </a:effectLst>
        </p:spPr>
      </p:pic>
      <p:sp>
        <p:nvSpPr>
          <p:cNvPr id="48" name=""/>
          <p:cNvSpPr/>
          <p:nvPr/>
        </p:nvSpPr>
        <p:spPr>
          <a:xfrm>
            <a:off x="3419640" y="2637000"/>
            <a:ext cx="550836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Също тъй след нощния мрак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на греха и на смъртта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ще изгрее слънцето пак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на живот във любовта!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Сам Исус е това Слънце,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любовта Му е спасение!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О, възрадвайте се всички,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[: пейте Му хваление! :]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2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8T09:28:09Z</dcterms:created>
  <dc:creator>TrifonTrifonow</dc:creator>
  <dc:description/>
  <dc:language>en-US</dc:language>
  <cp:lastModifiedBy>TrifonTrifonow</cp:lastModifiedBy>
  <dcterms:modified xsi:type="dcterms:W3CDTF">2005-12-08T09:55:08Z</dcterms:modified>
  <cp:revision>13</cp:revision>
  <dc:subject/>
  <dc:title>Slide 1</dc:title>
</cp:coreProperties>
</file>